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007FF-2D76-4AE8-9EA4-94916050E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2086D-95C6-4C98-8B4F-8103B07D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35D40-3A02-46B2-B0E8-9313A138F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313-1666-4E2E-BA7E-C580B610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266-F351-4E73-94A5-7196D9C1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1A9C7-81B9-46E3-B053-6D2B584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B8705-D4C2-40DE-AE23-432033D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C4EED-2A70-49B1-B706-29FC08FA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21E74-AB13-4305-ADF7-FBE2229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F819B-A677-489B-8DF9-ACBB258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8E1F8-9F87-4EB0-AC74-8CF8CF9D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8127A-56B4-4BE5-8D78-9DD8832D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59D7E-E34C-4FF5-8320-2691F973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6C354-7178-457D-804E-486198A9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ED2FB-8035-45E7-8C7D-D71E46C4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771-13E2-4EE2-A755-AEDC538A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1F287-45A8-44DC-9060-B396A372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E6647-CC57-4B42-AC43-99E68F40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304E8-D79A-4A0C-B7E0-9E6832A9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862A1-1421-45B6-93EE-C2C0DAA6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22E21-E2C6-4771-9CF5-F6BF83AE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79C75-0900-4ED0-89E3-0B0B77B2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C6A14-7074-4EB2-96FF-B922C19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43ED-7A8E-4C82-A2C6-C9918A9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6D158-5F7C-4F42-8403-5FA9C826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5F23C-82FA-4923-A7B5-AFA14330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43D-6F9C-4979-98D1-1E9D04F3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DAFE4-EB95-4B7B-9F36-CA17366B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B8CF3-E8FD-4A07-85E1-2CFC6964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EE2AE-6E46-418F-AEED-FDA47A21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279EC-551B-460A-AF77-33681C1E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29924-77FB-46E0-898D-A8F1CCC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28C1B-960B-48CB-A4BE-2D90395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D84C7-723A-4596-B676-42C2B44A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AAEFF-03EB-4BC1-8FBE-DBD0217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2C29B-7620-4E04-B9B5-46A8EE5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86F91-334C-4CE8-B9FF-F9412686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8CA-7482-41C2-9AFC-09AC5109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00616-845A-444A-AD40-3C5696E7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BA6C4-A368-411B-B5B0-8C3B8D7D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213AB-53C6-427E-B812-D213AF5D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DB908-5A02-4A7F-A264-BEECE2A8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32C1C-B9A3-4535-8E2D-C8B1E84D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0AF15-A12F-493A-AB73-2B16D6D6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02C68-50CF-4929-9542-767C7EA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F6250-46D2-4070-A336-D105F161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C6B03-E608-415A-9C5A-5873BC0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0BB03-8460-46EE-AA5F-02A2AB1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7747-3DD5-4F90-8078-8D4EE06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0D06F-B1D9-44E1-B588-7411D908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38A8B-0190-4013-865F-39F8296F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05D0F-3B88-42A1-91E6-36C1C668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3C8FF-01AD-4D38-A940-936D4A51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5C130-6A5C-4903-A721-338731DE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88157-E4E3-4ED5-919B-C04056B8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32AA9-516F-4E21-BFB9-FB4AFCF4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35657-0A3C-4BE8-81F6-CBA8C8C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DE2B2-09E1-4A7A-B385-51F7C2EC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E1AAB-69ED-4FB8-A27C-8DF3857B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F3FF-8EAB-48C0-AFA9-421A16D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55FC4-B011-4CFF-8CFA-F5C03C5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E6A06-B7E4-4706-8B95-A2074B6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A1C57-727B-4B0F-90A2-2EEC321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31EBB-5BDC-4359-95F2-248223E1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405E6-68E8-4269-9EE0-A203D820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B2F89-A793-415C-BF68-3EFFD9DC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648EE-34C3-46BC-877E-6FC38B98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1C669-7858-43D3-8107-37E24E5A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7A673-6F30-413D-ADE1-38ED247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A265B-FF22-45E1-800E-B7A4CA6F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D07C-ABC7-4399-894C-9AB3894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D61E2-053D-4384-952E-A81D2910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D6EC7-7183-47ED-9BA3-B0999D19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709F8-DD00-40B6-9C87-0B74E626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9B280-C3D8-42FA-A544-597B7993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A6340-3C95-4030-943B-0689BF7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8405A-A286-4888-A7E8-7807B50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0E502-8736-41E0-AFC8-133EE818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346B3-8C50-44CE-A484-6AFABF77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1AD5D-C023-4A94-BA25-AED361DA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0B5A5-9383-4347-B53E-BE53A86D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04D-FF95-4D9B-91AA-609D2A31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75911-9C0F-460D-9BC1-60924FF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6F609-1BD4-425C-9605-32CDD96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E488A-4957-4178-AE64-767FEDC5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C8C6C-FF6B-4441-876C-D64330CC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AB24F-8549-459B-AD07-06868B37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3D6BB-3992-46F7-A24E-922D960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331EF-95E2-4521-B1B9-A38393FC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50340-2778-404C-9FE9-F88A10F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590B7-BB15-403C-A3EC-F668422B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AE8F3-ECAE-45AF-9B70-FA5F13B2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A2A5-8427-4A95-82DF-202EFA9E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3E7AF-BA73-497D-AADD-FFBF0063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EFDE2-A4A1-4C8F-A9D8-019D4738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25DDF-FC79-4197-8314-78C9EA0D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3707E-22F7-41DC-BE11-EE7C34FF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395BA-0DE1-462D-85F7-F25FD6EA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4EB95-1147-48F2-9B63-2531DFE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CA7C7-8262-4C2E-9154-D392CE63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1D191-C0B2-40C9-9B73-18E8631C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C233D-654F-4A76-B277-4018149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1FA34-67AD-4842-9455-E95976D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34BA-EB0A-4C59-A894-28E67659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9F53D-7497-451F-BFE9-BBFE7FA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BF9C6-8301-42BA-B86F-5044914D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36DD7-5AA0-4035-A4EF-5E858380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6B4D1-7702-464B-A387-DC74D3A5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C298B-ACBC-4BE3-A483-570901EA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62FF4-EE38-4510-9A0E-27786E24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C4286-8D24-4ED0-874C-DA00330E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55EE7-3BC1-433A-A883-FD739F85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4F145-DFFE-4982-ADF5-CB69166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5AF5B-2C72-44E8-B466-8ECDD30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D9D-5BBB-4840-BF74-00E51981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2611-583A-4752-8AAB-449638AF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4389B-0AD4-444B-8936-434EFE6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D4CD7-DC79-4C1C-871E-E26977E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1F4235-768A-4603-B5A4-48BE19E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3CE0A-972A-480A-A33D-14CD2E89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7062B-C9BD-4E58-98D1-7055AE61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F90B-02F9-4587-A120-7FF28BB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0012-1EF2-48DE-ADF9-0F2FD96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F9BE-80D6-4F15-8475-498FEF0C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31D8-13F6-4945-9F14-B2E0E723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FF9F-1448-4D8D-B182-E3DD09CC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32E6-546E-4AFC-B0C3-8A2AA806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9C7E-CE02-4DE4-A174-8886FEC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280D-E2B7-4C21-987C-46963914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3EDE-EF34-413E-AE4F-6C0B39B0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15B-DC2E-4708-8B94-A8B60B7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9F46-3C40-49BE-BC9A-54CACE0F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90A0-F8AB-4638-833A-55D8A64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E48C-408F-4F26-B4D0-18A9C72A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4B36-3CC1-4C1E-BBDA-E58A9C9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A40D-6954-4854-B5B4-907EE184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735F-3496-44BC-A7F9-DBC07ACE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CC02-8BDD-4BDF-A4D7-66D8BD35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4415-2B2E-47F0-9021-1BE74400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1FB5-3033-4964-88A4-4B6CD407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C21B-F41A-4BEF-841B-3C61AD5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1E6-8F29-47D0-BD92-AC4BD73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23D9-3D95-48B8-8DEF-15E45F0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C14E-4B5F-4282-A357-C8D24377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6536-19FE-4E5B-A9EC-86B56A3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57E1-FE92-49CC-A0EE-91EB154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E09A-7F67-4057-805B-12641E1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CD98-F2EF-4ECC-BC1D-8C77B49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442D-4EC9-4AB0-B826-8F38CB4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9F9F-B646-4F79-B96C-FDCF3AE4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1809-E263-4453-A009-C34D52DF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1928-670C-41D2-A791-F31EA297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B70-6AE7-4059-B281-BA050B26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8937D-005E-459C-B227-047F3DD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52AD-53CA-4047-B132-408A82EB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54517-1F21-4CD9-831F-200287DE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0DA61-B59F-4130-8F1D-505EEAA5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7BD18-3FD9-47D2-903D-D0F7A415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463F5-48E2-49A9-84D4-E8B5732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5305-9149-4B0F-B4BD-3603279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4EF7-9578-4AE0-9BAE-8DA01F8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7A36F-B719-46C9-B978-E960994A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CA4C-2C99-4DE5-BE98-0F3CADC4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96D-FFB2-4A6D-88BE-7B6038E5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62932-DB1E-413A-9AA2-75FF353E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168F0-F70D-4A6D-9630-EC9772B1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0926-F885-4724-87D6-E0DA87F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70E1-4D23-4126-9BE0-874345A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BA3A-AAFA-4B20-A867-0C15EE9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7C3C5-052F-4294-83F9-ED350CDD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523F5-39C1-4F47-A0B0-2DA7EA71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01E5-18FE-4B50-894F-7B8E5F40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5A33-1411-4242-96EA-9A59DE7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B8F9-AAF4-445B-9829-5F1F3B1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962-68F4-4B55-B67A-9E97BDDF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5F4A-C03B-499D-AA62-6288D60F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04F14-221A-401D-A0E8-E211A8BF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EA5D-40E5-4C98-B849-35C1B47C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CD8F-70A7-4CF0-A629-889E20A9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E971-D5CB-4BE4-99A9-5D67C1D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878E6-E3D7-4BCA-9973-5CAFCDE3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CC78E-407A-4E1E-91AB-C3FF5763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EFB6-B595-49D0-90B9-6E242E7C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DA9B-7A3A-46C5-930B-D0188835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4BBF9-EB3A-4A5E-A6CF-640B9A3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3DC-361F-45B0-AC8B-D60BB1C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33021-BC30-413B-9970-28461360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A71B1-0E27-48E3-9F71-8124D893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49D1-2419-41BC-9753-7A30D64F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8C17-9779-4835-B858-5194F98B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88BB5-12D2-4342-97FF-01B2ED35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700F0-097C-4453-AEF6-0ABDF02C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653E0-972E-4C00-ACBD-85AF846B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8ADA-1104-4F4F-A8F0-A044F0C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BAF3-DA4D-4FD9-B838-691C8452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B5353-D867-4B43-BE19-4E289C8A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295-F820-498F-8184-5EFEB2B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8E54B-99CC-4B0B-A76E-66B3FAB5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0DE8B-E649-4F6D-9536-575E73E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ABB7B-7A80-4B57-8725-8FD2BA9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5BACF-03D9-4EFE-B53F-E8C859AB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7A4D7-E943-43FD-9EA1-AA3DE7B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A8143-F8A8-4DEC-BB8F-14BA382A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642A3-B914-4E62-BC9F-9E4814FF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E47B6-7B85-47AE-A31C-11D57950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25BC3-0ECD-43BC-972E-96838077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4FC86-2668-4DA5-888E-FF26C40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A56AF-6416-42CB-B251-AF260D9B4BD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5095D-B2E6-4810-937D-B00ED8726AB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47769-CC1D-44DE-8B5C-B6FECC249F8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77B5C-C563-43DC-9F2E-3B13BA326A5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4DE0D-B2C4-4ECC-AB7D-C6DAFE45152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A9A0A-855A-4DA1-A06B-7AA7B87EA20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FE808-E2EB-4FA6-98FE-5C5410E9EF1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724C2-2179-4641-8F1F-8B64FE85172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3C4D9-4873-4E91-A732-A9350BF1775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F0829-C3B5-443C-A14C-9B9D0208E97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57814-BC51-45FF-BBAF-3399AF79223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73A9C-606C-4EE9-97A4-8A4AAB30972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7287F-B4D7-4A46-B6BB-2486CB8B7CE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FE825-BBA1-4814-B39B-8518813B593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BE817-B2A1-4BEE-A6F6-98E7F3B5E78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7036B-7112-462A-9081-54E0968DDB7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FFAAF-388D-47C1-9207-A48628FD16F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640D2-7E96-4848-90B2-5DA0BA31BA5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08E00-8C54-45D4-BBC1-C8EFE1038D3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7A97F-684F-4FF5-ABBF-AD84D6B98C4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57231-5638-4D56-B49B-27ABF06DBB1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05A44-48E6-4103-A3CA-F53E2C88FA5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5923B-B482-4BD6-BF49-993B9FE48AC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5DC6D-329A-47D1-97F1-2CCA90039C8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E0023-C1C0-4FCA-87D3-06D5A7D6690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067CF-6021-4ED0-98CD-183B59BDC6B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53E9A-8914-4CE2-823C-FC011DCBD54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3F3DB-CB5D-48D8-8CE9-262885F0A45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FD49E-C99A-43F3-A501-208933BB62C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9C274-52AE-4505-B3B9-1F65E956B80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BF55D-D512-44B2-9C9F-553915818EB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08655-E90A-47D1-8F22-FE5BCFCDF6F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73B50-17CC-4075-A8C6-5A92FAA458E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7A333-443E-447B-BE3D-C22210C0FC6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ottmccloud.com/1-webcomics/icst/icst-5/icst-5.html" TargetMode="External"/><Relationship Id="rId2" Type="http://schemas.openxmlformats.org/officeDocument/2006/relationships/hyperlink" Target="http://scottmccloud.com/1-webcomics/icst/icst-6/icst-6.html" TargetMode="External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8: Reinventing Comics – Genre and economic changes in a digital world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novation in Industr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rights require innovation in industry model - and sometimes drive 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mple model of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etting into the busines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- photocopy a drawing and sell it yourself - trite but true - but it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more complicated in pract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Steps in Traditional Publish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Author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Publisher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Account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Market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Print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Distribution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Warehous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Retai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Transportation among above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reation and Distribution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will sacrifice control over non-creative tasks to gain broader marke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ften a good idea – but can be a trap –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Public Percep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kid-lit – what effect does stereotype hav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raditional model of production creates vicious cycle around stereotype – perception of comics as kid lit influences what is and is not produced which reinforces percep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nd Censorship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US history - tainted by censors who lamented the debasement of culture, perversion of youth - pretty much everything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ronically, drove comics underground where they became even more debased (e.g., R. Crumb and other alt comics of 60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Driven by perception - if comics were seen as valued art, would this happen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87200" y="545760"/>
            <a:ext cx="6870600" cy="1027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udience/Creator Divers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ender Bala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nority Represent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versity of Gen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nd Gender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raditionally creators and audience were male - leading to particular stereotypes of both gender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Creators have been female - but still expected to follow expectations of audience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o what effect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Alternative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inority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tereotypical audience, and many creators - white, male, straight, Christian, young, physically able, middle clas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milar to gender issues – stereotype can be hard to break throug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o what effec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lternativ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versity of Genr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Superhero domination of shelf space via perception, creation and audience - a vicious cycle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Non-traditional graphic novels - breaks through ideas of what a comic 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ust be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Required breaking through comic store as core distribution chann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06320" y="174240"/>
            <a:ext cx="8004240" cy="16002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inventing Comics (4)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gitization and the Interne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gital Produ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gital Delive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gital Com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roup proposals on wiki – ASAP if not toda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on group wikis – 5% of final project mark = providing feedback on others proposals – do it over this week to be helpful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tip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gital Produc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oduction of comics digitally - including McClou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two last books, but others as wel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webcomics – 100% digitia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about your ow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gital Deliver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Like other media, removes steps in production process - ideally creating more direct consumer/producer links and lowering costs of syste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ocial networking technologies – allow for comics to spread wide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lso digital payment – how do webcomics make mone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gital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an include immersive and interactive environm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ot as bound to page requirements (e.g., I Ca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 Stop Thinking scrolling example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an even be more traditionally framed comics simply distributed via web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versity of genres, explosion of options (http://www.thewebcomiclist.com/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lated Direction: Flash-based Animation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does Flash contribute to visual and experiential effect of animatio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y is it still comical in natur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s it really a comic though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ekly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cCloud’s take on micropayments (an extension of the book – now very old!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scottmccloud.com/1-webcomics/icst/icst-5/icst-5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2"/>
              </a:rPr>
              <a:t>http://scottmccloud.com/1-webcomics/icst/icst-6/icst-6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fail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Next week(s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“newness” of new 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cial media/Web 2.0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osing thoughts and exam review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Reinventing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12 basic concepts, 4 sec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A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dustry and Audi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/Audience Divers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ffect of Digitiz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inventing Comics (1): Creation as Ar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Liter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A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Righ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Literature/Ar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can be both literature and art if properly do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of you have already discovered this in writing the pap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x steps in UC – building a foundation for something more than surface understanding as driving for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Literatur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ocus on complex narrativ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ore complex than simple serialized strip or simple webcomic - a full story from beginning to end (or a serialized strip  that takes months/years to tell story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Ar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visual narrative – complexity of narrative extends to are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Japanese influence - a range of interesting non-action transitions directly supporting artistic storytell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reators</a:t>
            </a:r>
            <a:r>
              <a:rPr b="0" lang="ja-JP" sz="4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Like other media, similar battles between creators/publishers (example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 concerns for ownership and control, fair share of prof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creasing interest in maintaining fair access and compensation for talent – away from studio work for hire model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halleng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inventing Comics (2): Industry and Audience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dustry Innov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ublic Percep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stitutional Scrutin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1-03T16:54:56Z</dcterms:modified>
  <cp:revision>69</cp:revision>
  <dc:subject/>
  <dc:title>CCT 300: Critical Analysis  of Media</dc:title>
</cp:coreProperties>
</file>